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445-884C-4C2E-973D-854E398D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054-857B-47C9-9356-D3EDC99B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EFD-C95F-472A-9A5A-2A131DC6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D33-168E-44AE-AC91-B6778656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14C-54B1-4195-8BA0-22742F3D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4C1-0AEE-4CC5-B97E-3CCA6485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7AD-E89C-464A-8109-80066983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1FA-4953-41FC-8A91-02069707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5E8-B3E2-48AE-9422-8E70EC8E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E2D-D199-48AF-A931-FC4D7B1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1E1-F2FB-4ADC-A9B0-CF44E491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CC1-40AC-4C4B-8ADC-8A3F7E99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BD9-C041-4BC7-9289-BCB3F7CB0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reading and listening to children's books help us to be better writer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ckb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readers need to determine the importance of the text they are reading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questions help us to better understand what we are 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I use a self assessment to make me a better reader and wri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informational and narrative texts diff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become an expert on a topic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ext features help you to better understa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text structures help you to better comprehe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ile you are reading a children's book, how do the details help you to better understand the story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informational and narrative texts differ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become an expert on a topic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ext features help you to better understa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ext structures help you to better comprehe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use the research process to communicate what we have learned about a su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oes it mean to persuade someone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s persuasive text fiction, nonfiction, or can it be both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18:37Z</dcterms:created>
  <dc:creator>Abby Owens</dc:creator>
  <dc:description/>
  <dc:language>en-US</dc:language>
  <cp:lastModifiedBy>Abby Owens</cp:lastModifiedBy>
  <dcterms:modified xsi:type="dcterms:W3CDTF">2010-05-28T00:23:41Z</dcterms:modified>
  <cp:revision>25</cp:revision>
  <dc:subject/>
  <dc:title>PowerPoint Presentation</dc:title>
</cp:coreProperties>
</file>